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28D25-163E-430C-AE9C-D273E41EF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78D06-2094-4A8F-ABF4-E4480F17F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56358-F9C8-4E4F-89D1-45810CB89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DBE01-BB2E-4D0C-BF4A-565914B4D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D66E9-2497-48D1-AC89-321022199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38528-EF58-4D7F-8781-A517ECD1B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154B4-E427-470E-8764-3F78F22DD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AD75C-85D6-4681-B2DD-C492A64AA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68C3C-38FF-45CC-93A3-09BD690B5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22378-0ECF-4CCC-9829-3DED1B99C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0868-4E11-4CCB-93A5-822AAE07D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17F70-3A20-493C-AF32-6F8D8A72F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5ACC-864D-4065-8010-F99ED077A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cioly.org/wiki/Bottle_Rocket#Fins"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Design Portfolio</a:t>
            </a:r>
            <a:br>
              <a:rPr sz="4400"/>
            </a:br>
            <a:r>
              <a:rPr b="0" lang="en-US" sz="4400" spc="-1" strike="noStrike">
                <a:solidFill>
                  <a:srgbClr val="000000"/>
                </a:solidFill>
                <a:latin typeface="Arial"/>
              </a:rPr>
              <a:t>Bottle Rocke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tephanie 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corc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scioly.org/wiki/Bottle_Rocket#F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clauset/21_BtlRockets/BTL.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1 liter or less plastic carbonated beverage bott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ss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ck Construction Paper (for Fi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 and C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king Tape vs. Scotch tape: </a:t>
            </a:r>
            <a:br>
              <a:rPr sz="3200"/>
            </a:br>
            <a:r>
              <a:rPr b="0" lang="en-US" sz="3200" spc="-1" strike="noStrike">
                <a:solidFill>
                  <a:srgbClr val="000000"/>
                </a:solidFill>
                <a:latin typeface="Arial"/>
              </a:rPr>
              <a:t>Scotch tape is thinner than masking tape, but also weaker. Masking tape on the other hand, is a lot stronger, but can add more weight, making the Bottle Rocket not stay high enoug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 and Con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fins vs Small F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eople believe that the smaller the fin, the less weight it is going to be, making it go higher. That is NOT all the way true. Larger fins near farther up the rocket work just as well as small ones lower d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se Con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e is the top of the rocket.  It is  usually pointy or roun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used to stabilize the rock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s are usually near the middle-bottom of the rocket. The fins usually have 3-4 s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y the fins help the rocket is again like the nose cone that helps stable the rocket by putting the center of the pressure behind the center of gra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Plan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the link to my step-by step design plan in Microsof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Pla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know this is my best design because I made the rocket as light weight as I could (with the recovery system). With all of the math on the fins, it should go the highest it can go, with just about an estimate of 11 me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of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ll of the details/ mesurment that you need to kno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Space in-between each fin: 6.6675 c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ference:26.6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eter: 7.6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15 cm by 5 c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21:56:22Z</dcterms:created>
  <dc:creator>sgreen</dc:creator>
  <dc:description/>
  <dc:language>en-US</dc:language>
  <cp:lastModifiedBy>sgreen</cp:lastModifiedBy>
  <dcterms:modified xsi:type="dcterms:W3CDTF">2011-10-13T02:36:53Z</dcterms:modified>
  <cp:revision>7</cp:revision>
  <dc:subject/>
  <dc:title>Building Desigh Portfolio Bottle Rockets</dc:title>
</cp:coreProperties>
</file>